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2B6E-2314-4906-AD50-842C1CBD4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ade school ma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 questions to ask the student team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es a CD player turned off in your backpack decrease bicycle safety? What is the real problem with listening to music while bicycling? (distra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es just the presence of a stop light or crosswalk increase bicycle safety? (“using crosswalks safely”; “obeying stop lights” would be more accurate descrip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the problem with animals? (dogs on a leash provide a limited distraction, but dogs chasing you is a huge distra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F1F6-2141-44F3-9E68-E3EFB24CB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39AA-E4C6-45C7-8CF3-291C59B52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80D4-DEA6-41ED-9DF5-9BD4CA0BC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BD4A-D963-47A2-B32E-757658825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D4A2-6EB5-4D20-91F9-10678CCA5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0327-493E-4AF4-AECE-7300910E2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BE07-4C3F-41F9-BB2C-3FAB0DBD8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6764-4BE7-46AD-A967-307AAF7DA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DE8D-ECCA-4F79-B407-CA9F217B8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9AA8-FC1F-42B4-89AF-3FED7FDD8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09C9-B20D-4F8D-89E2-45C54FB4D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15BE-EBD8-4D9A-8FED-02823912A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B98C-D936-4C66-9284-7D6004ABCDE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Causal Maps and Practicing Effective Question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375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Reflecting on Your Causal Map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8.0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In pairs, reflect on your causal m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587520" indent="-24444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the Project Reflection Checklist to guide your discu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587520" indent="-24444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e any needed revis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4675-C9A6-444C-A211-B7738FB931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76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Editing Your Projec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0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o to the Teacher Workspace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t:</a:t>
            </a:r>
            <a:br>
              <a:rPr sz="1600"/>
            </a:b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ign I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dit your projec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ubmi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07C2-C637-40F1-A01D-5A0E5713D8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Reviewing Student Work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8.08–8.0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o to the Teacher Workspace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t:</a:t>
            </a:r>
            <a:br>
              <a:rPr sz="1600"/>
            </a:b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a student team’s map and add a com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progression of student thinking by selecting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View or Print Team’s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ll maps for the tea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ps in portfol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76A5-1E4C-4DA4-9681-86F18F32A7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7521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Revising Your Causal Map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any new ideas from your colleagues to revise your practice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Internet to research your evidence to eliminate, validate, or add to your initial causal map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A61D-A8BF-4F32-9D28-47F92B42BC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ting Your Uni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derstanding Best Classroom Practices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br>
              <a:rPr sz="1400"/>
            </a:b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.11– 8.1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earn the tool by using 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tool in groups—pairs is idea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Keep in mind that not all work and discussion occurs at the comp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uide students in distilling essential information in their m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cognize when maps are 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multiple methods of assessment throughout th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4ABA-CB17-45DC-90EE-0D6CDC1E67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ting Your Uni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Revising Your Unit Pla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1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Seeing Reason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ction and foundation sections,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f needed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the Student Assessment Plan section, add your ideas for how you would assess the learning throughout the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Assessment Timeline, as need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Procedur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Unit Summ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py an image of the map into the Practice Map se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8075-BAE7-4D53-9D01-EC56B3C7B9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Results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15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your experience with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d you try out an idea for your main unit or for a different project idea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ing your test results, do you think you will keep this tool in your Unit Plan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 see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itting in with the objectives and standards/syllabus outcomes you are trying to target—and your overall plan for your unit?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will the use of this tool help students meet those need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 se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nhancing your students’ higher-order thinking skills as well as collaboration and communication in your classroom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CA99-B8A1-4C76-BE8A-D4F9895C15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nalising Your Seeing Reason Projec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.16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685880"/>
            <a:ext cx="82375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If you anticipate that a </a:t>
            </a: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project will be imple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for your unit because it is a good fit for the unit’s objectives, comple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any unfinished elements of your </a:t>
            </a: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projec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Include appropriate references, comments and analysis in you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practice map that you would expect your students to include in thei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projects.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Make any necessary edits to the project itself, and save your change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A8A7-45A8-4966-997B-E85B910B6C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4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8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18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609560"/>
          <a:ext cx="8237520" cy="402300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8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365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use of the </a:t>
                      </a:r>
                      <a:r>
                        <a:rPr b="1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 Tool</a:t>
                      </a: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supports mathematical reasoning and understanding across the curriculum through the use o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g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itical think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ecise langu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epresentation of direct and inverse relationshi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</a:t>
                      </a:r>
                      <a:r>
                        <a:rPr b="1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 Tool</a:t>
                      </a: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supports investigation that occurs in cycles o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vidence gathe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ap buil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1194-2327-4CF6-8918-608BEBBDD3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9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ing the Showing Evidence Tool to Target Thinking Skill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derstand how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upports the argumentation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rate evid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best uses for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 up 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roj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E53F-55E3-44A0-860C-006B304562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5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838080"/>
          <a:ext cx="8237520" cy="5008680"/>
        </p:xfrm>
        <a:graphic>
          <a:graphicData uri="http://schemas.openxmlformats.org/drawingml/2006/table">
            <a:tbl>
              <a:tblPr/>
              <a:tblGrid>
                <a:gridCol w="1676520"/>
                <a:gridCol w="6561000"/>
              </a:tblGrid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2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signing Proj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3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ng Curriculum Framing Questions to Suppor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ss a unit that integrates the use of the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 To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ew and discuss ideas for incorporating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 </a:t>
                      </a: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nto your un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velop and share a project idea that uses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t up a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 </a:t>
                      </a: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ject on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26F5-C309-4AB8-980D-8F6EE6A76E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73E9-F645-4CFD-8DC5-E5F3CE5045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8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35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onsidering the Seeing Reason Tool for Your Uni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35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828800"/>
            <a:ext cx="76960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Aft>
                <a:spcPts val="1349"/>
              </a:spcAft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a practi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ausal ma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5080" indent="-235080">
              <a:spcAft>
                <a:spcPts val="1349"/>
              </a:spcAft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and practice effective questioning techniq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5080" indent="-235080">
              <a:spcAft>
                <a:spcPts val="1349"/>
              </a:spcAft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and receive feedback on project ide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858B-1F0E-4AE1-A29B-436FFC095B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066680"/>
          <a:ext cx="8237520" cy="2590920"/>
        </p:xfrm>
        <a:graphic>
          <a:graphicData uri="http://schemas.openxmlformats.org/drawingml/2006/table">
            <a:tbl>
              <a:tblPr/>
              <a:tblGrid>
                <a:gridCol w="1828800"/>
                <a:gridCol w="640872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A331-F0F7-47B2-96A9-48C6D43618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8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nsidering the Seeing Reason Tool for Your Unit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90760" y="1676520"/>
            <a:ext cx="47624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practic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ausal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and practice effective questioning techniq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and receive feedback on project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your experience using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4005360" cy="40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8BEA-AA68-4EF0-82F7-442288443A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rying Out Your Seeing Reason Idea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0480"/>
            <a:ext cx="823752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Logging In as a Studen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0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udent Log-I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e your teacher ID, team ID, and passwo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ign I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your project’s tit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058B-3F23-4B19-B923-2C66FFEAC5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6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rying Out Your Seeing Reason Idea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09360"/>
            <a:ext cx="8237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Using the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.02–8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factors to your causal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relationships between fact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nter comments directed to the teacher or one’s team memb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ve in your portfol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Saving a Map Image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how to save and copy a map imag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 your map is complete, you will be copying the image into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AEF8-8278-4852-873E-11FAFFC069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Causal Maps and Practicing Effective Question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5259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Taking a Deeper Look at Maps –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 Module 8.04–8.0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rt of the teacher’s task involves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ycles of listening, questioning, and refocusing student work—leading students to evaluate their own thinking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76720" y="2476440"/>
            <a:ext cx="5638680" cy="331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E12C-4455-4520-8B19-AA0922F9F5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Causal Maps and Practicing Effective Question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sing Effective Questioning Techniques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.05–8.0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pairs, discuss your practice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ole play student and teach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actice the cycle of listening, questioning, and refocusing your “student’s” work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rite new ideas for your practice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te any questioning techniques you learn during this activ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0B2E-7ED1-48DF-9B35-27F39A0286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7:33Z</dcterms:modified>
  <cp:revision>160</cp:revision>
  <dc:subject/>
  <dc:title>Presentation Title Goes Here</dc:title>
</cp:coreProperties>
</file>